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3A32-D34E-4C25-A2EA-2DA33CF3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E31-B9F3-44FF-8B00-2DA5AC4E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ECBF-4D18-419C-958E-F1AA1A74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AEE6-82AC-4FEC-83A2-332DE241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7003-7110-4555-98E7-68876A96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93FB-61D5-4434-AF00-20E82AA0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D817-A765-45C8-B176-8417FD92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8862-B6E5-4FA9-8AE9-39B5D1A9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F85F-6D3D-4B4C-97DB-0A6B8D08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F850-2083-498C-BBBA-F1DB571F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8ECD-5FAC-4F08-A5BA-E743D2B2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8A0F-3874-4881-957E-ACE55607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05C2-F89F-4988-958D-3F6222A5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7AA4-B664-4987-9E9B-50909BF6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9957-7A12-428B-A065-C39F8766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F552-8377-4579-9970-F37B6801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DF56-7225-45D6-A20E-6166D1F5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0580-061F-4CCB-BC84-3E03DACD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DA90-1D56-4380-9D51-EF9F58F2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1F34-70E6-4A5D-B689-004A46D5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191E-20E0-4E4D-9D76-B3A4FDF9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7C3B-00D6-4467-8F92-9BAA7588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306F-C34F-4C94-970F-5906582D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A702-55CD-4647-BA29-250F9066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d31"/>
                  </a:gs>
                  <a:gs pos="100000">
                    <a:srgbClr val="5261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4a572e"/>
                  </a:gs>
                  <a:gs pos="50000">
                    <a:srgbClr val="526133"/>
                  </a:gs>
                  <a:gs pos="100000">
                    <a:srgbClr val="4a572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47B2-344E-466E-8E53-CD64218559A1}" type="slidenum">
              <a:rPr b="0" lang="ro-RO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d31"/>
                  </a:gs>
                  <a:gs pos="100000">
                    <a:srgbClr val="5261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4a572e"/>
                  </a:gs>
                  <a:gs pos="50000">
                    <a:srgbClr val="526133"/>
                  </a:gs>
                  <a:gs pos="100000">
                    <a:srgbClr val="4a572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20DE-FD6E-43C5-94D0-ADC749E365E9}" type="slidenum">
              <a:rPr b="0" lang="ro-RO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publicatie.doc" TargetMode="External"/><Relationship Id="rId2" Type="http://schemas.openxmlformats.org/officeDocument/2006/relationships/hyperlink" Target="file:///linkuri.doc" TargetMode="External"/><Relationship Id="rId3" Type="http://schemas.openxmlformats.org/officeDocument/2006/relationships/hyperlink" Target="file:///greseli_tipice.ppt" TargetMode="External"/><Relationship Id="rId4" Type="http://schemas.openxmlformats.org/officeDocument/2006/relationships/hyperlink" Target="file:///utile_asistenta_unitate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Wikiplanvelimirovici.doc" TargetMode="External"/><Relationship Id="rId2" Type="http://schemas.openxmlformats.org/officeDocument/2006/relationships/hyperlink" Target="http://matematicascaiancuoradea.wikispaces.com/" TargetMode="External"/><Relationship Id="rId3" Type="http://schemas.openxmlformats.org/officeDocument/2006/relationships/hyperlink" Target="file:///../Aplicatie_elev/prisme%20si%20piramide.ppt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Plan_unitate/Plan_unitate_invatare_velimirovici.doc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o-RO" sz="4000" spc="-1" strike="noStrike">
                <a:solidFill>
                  <a:srgbClr val="ffff00"/>
                </a:solidFill>
                <a:latin typeface="Tahoma"/>
              </a:rPr>
              <a:t>Prof. Velimirovici Cosmin</a:t>
            </a:r>
            <a:br>
              <a:rPr sz="4000"/>
            </a:br>
            <a:r>
              <a:rPr b="0" lang="ro-RO" sz="4000" spc="-1" strike="noStrike">
                <a:solidFill>
                  <a:srgbClr val="ffff00"/>
                </a:solidFill>
                <a:latin typeface="Tahoma"/>
              </a:rPr>
              <a:t>matematică</a:t>
            </a:r>
            <a:br>
              <a:rPr sz="4000"/>
            </a:br>
            <a:r>
              <a:rPr b="0" lang="ro-RO" sz="3200" spc="-1" strike="noStrike">
                <a:solidFill>
                  <a:srgbClr val="ffff00"/>
                </a:solidFill>
                <a:latin typeface="Tahoma"/>
              </a:rPr>
              <a:t>Şcoala cu clasele I-VIII Avram Iancu, Oradea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3346560"/>
            <a:ext cx="8540640" cy="27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Tahoma"/>
              </a:rPr>
              <a:t>Instruirea în societatea cunoaşteri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0066"/>
                </a:solidFill>
                <a:latin typeface="Tahoma"/>
              </a:rPr>
              <a:t>Succes tuturor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00ffff"/>
                </a:solidFill>
                <a:latin typeface="Tahoma"/>
              </a:rPr>
              <a:t>Proiect educaţional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2565360"/>
            <a:ext cx="854064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6600"/>
                </a:solidFill>
                <a:latin typeface="Sylfaen"/>
              </a:rPr>
              <a:t>	</a:t>
            </a:r>
            <a:r>
              <a:rPr b="0" lang="ro-RO" sz="4400" spc="-1" strike="noStrike">
                <a:solidFill>
                  <a:srgbClr val="ff6600"/>
                </a:solidFill>
                <a:latin typeface="Sylfaen"/>
              </a:rPr>
              <a:t>	</a:t>
            </a:r>
            <a:r>
              <a:rPr b="0" lang="ro-RO" sz="5400" spc="-1" strike="noStrike">
                <a:solidFill>
                  <a:srgbClr val="ff6600"/>
                </a:solidFill>
                <a:latin typeface="Sylfaen"/>
              </a:rPr>
              <a:t>Profesor pentru viitor  Matematica predată cu ajutorul calculatorului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914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ff00"/>
                </a:solidFill>
                <a:latin typeface="Georgia"/>
              </a:rPr>
              <a:t>Tema aleasă pentru a implementa acest proiect este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2707920"/>
            <a:ext cx="854064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66ff33"/>
                </a:solidFill>
                <a:latin typeface="Franklin Gothic Medium"/>
              </a:rPr>
              <a:t>Prisme şi piramide , arii şi volume. Rezolvarea unor probleme de geometrie similare cu cele de la Evaluarea Naţional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0066"/>
                </a:solidFill>
                <a:latin typeface="Rockwell Extra Bold"/>
              </a:rPr>
              <a:t>Conţinu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00"/>
                </a:solidFill>
                <a:latin typeface="Tahoma"/>
              </a:rPr>
              <a:t>În acest material voi expune pe scurt conţinutul portofoliului obţinut după parcurgerea celor 7 module.Materialul este conţinut în cinci directoare denumit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00"/>
                </a:solidFill>
                <a:latin typeface="Tahoma"/>
              </a:rPr>
              <a:t>Asistenţă uni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00"/>
                </a:solidFill>
                <a:latin typeface="Tahoma"/>
              </a:rPr>
              <a:t>Aplicaţie ele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00"/>
                </a:solidFill>
                <a:latin typeface="Tahoma"/>
              </a:rPr>
              <a:t>Evalu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00"/>
                </a:solidFill>
                <a:latin typeface="Tahoma"/>
              </a:rPr>
              <a:t>Imagini sune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00"/>
                </a:solidFill>
                <a:latin typeface="Tahoma"/>
              </a:rPr>
              <a:t>Plan uni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9900"/>
                </a:solidFill>
                <a:latin typeface="Impact"/>
              </a:rPr>
              <a:t>Asistenţă unitat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Acest director conţine fişiere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Publicaţie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despre învăţarea prin proiec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Link-uri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ut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lang="ro-RO" sz="2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prezentare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cuprinzând fragmente din lucrări scrise ale elevilor din alte generaţii, lucrări alese pentru greşeli tipice , de conţinut, de ortografie, de încadrare în timp sau chiar amuzante şi care se doresc a fi evit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Alte </a:t>
            </a:r>
            <a:r>
              <a:rPr b="0" lang="ro-RO" sz="2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fişiere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Directorul Aplicaţie elev 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Planul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unei pagini wiki 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matematicascaiancuoradea.wikispaces.com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menită să găzduiască sarcinile de lucru, rezultatele, prezentările elevilor, opiniile şi discuţiile elevilor despre admitere şi alte teme legate de admit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lang="ro-RO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prezentar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a unui elev (vor fi mai multe), cu principalele teme vizate în proi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Directorul Evalua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ţine fişiere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Evaluarea aplicaţiei elevul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Diagrame KW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O prezentare care prezintă elevilor toate etapele evaluării pe parcursul capitolului şi la fi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Alte fişiere utile în evaluarea elevilor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Tahoma"/>
              </a:rPr>
              <a:t>Imagini sunet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540640" cy="48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Aici se află imaginile utilizate la realizarea materialelor multime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848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Plan unit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Planul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unităţii de învăţ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lan de implementare a unităţii de învăţ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Bibliograf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1:20:25Z</dcterms:created>
  <dc:creator>Eu</dc:creator>
  <dc:description/>
  <dc:language>en-US</dc:language>
  <cp:lastModifiedBy>www</cp:lastModifiedBy>
  <dcterms:modified xsi:type="dcterms:W3CDTF">2011-01-14T12:30:00Z</dcterms:modified>
  <cp:revision>13</cp:revision>
  <dc:subject/>
  <dc:title> Prof. Velimirovici Cosmin matematică Şcoala cu clasele I-VIII Avram Iancu, Oradea  </dc:title>
</cp:coreProperties>
</file>